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E96-C1AE-4E60-9589-64B67EF5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00D-0EE2-4D4F-A197-0D8AAACC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4DA-F39F-4678-9D88-505815AF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7CA-5973-478D-858C-A6C3FA06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1B6-BF96-4DA7-9B12-C5DE001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84B-F35F-477A-A21A-9B5D5536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B63-F8EC-4EC3-8FCF-2CEB9775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5C5-75CC-478C-B9A0-5807B2C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98F-7E0B-4D8A-B4CD-B9E2A6F5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27E-3FB0-4A3E-AEDF-79B227D2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B46-B992-4E5F-A751-85CE3CB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2E2-E09E-4E7A-8B2C-8321217F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D0A5-353A-4F31-A345-2702DF79B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rgiahistory.com/nineteen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ia/part3/3h1522b.html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act of the cotton gin on American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19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of the following inventions has had the largest impact on American society? Pick one, and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97180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(fill in the bl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971800"/>
            <a:ext cx="2590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t was difficult to make a profit from cotton because cottonseeds were removed by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tton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43200"/>
            <a:ext cx="622944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4876920"/>
            <a:ext cx="2514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tton Ball, picked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) It took one person an entire day to clean one pound of co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Eli Whitney invent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7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Eli Whitney's Cotton Gin">
            <a:hlinkClick r:id="rId2"/>
          </p:cNvPr>
          <p:cNvPicPr/>
          <p:nvPr/>
        </p:nvPicPr>
        <p:blipFill>
          <a:blip r:embed="rId3"/>
          <a:srcRect l="9172" t="7813" r="20536" b="6249"/>
          <a:stretch/>
        </p:blipFill>
        <p:spPr>
          <a:xfrm>
            <a:off x="0" y="571680"/>
            <a:ext cx="3543480" cy="628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6095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li Whitney’s cotton 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59040" y="609480"/>
            <a:ext cx="54849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81480" y="54849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Whitney never became wealthy from his inv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0" b="7819"/>
          <a:stretch/>
        </p:blipFill>
        <p:spPr>
          <a:xfrm>
            <a:off x="0" y="533520"/>
            <a:ext cx="5018040" cy="632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30640" y="457200"/>
            <a:ext cx="4113360" cy="411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Whitney applied for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t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cotton 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4197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People ignored the patent and built thei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ation owners began to earn a lot of money growing cott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0" b="6492"/>
          <a:stretch/>
        </p:blipFill>
        <p:spPr>
          <a:xfrm>
            <a:off x="0" y="1825560"/>
            <a:ext cx="7093080" cy="50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86600" y="4038480"/>
            <a:ext cx="205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Cotton Gin" (image from 186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used farmers to increase their dependency on slave lab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520" y="1554120"/>
            <a:ext cx="8226360" cy="530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 tribes such as the Cherokees and Creeks were forced o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that farmers would have more land to grow cott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3:48:00Z</dcterms:created>
  <dc:creator> LPS</dc:creator>
  <dc:description/>
  <dc:language>en-US</dc:language>
  <cp:lastModifiedBy>Adam Berlin</cp:lastModifiedBy>
  <dcterms:modified xsi:type="dcterms:W3CDTF">2008-02-24T04:23:30Z</dcterms:modified>
  <cp:revision>12</cp:revision>
  <dc:subject/>
  <dc:title>PowerPoint Presentation</dc:title>
</cp:coreProperties>
</file>